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CC8-6330-42A8-BB96-7A56465CB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459-EFC1-405B-A53B-F9CDF741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6240-62F4-453D-B69D-55E012F0E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9FB2-8B89-46AB-B0F8-EE24F6F4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FE7-C776-45BA-8AEA-FA836871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D3F6-0EA8-4A49-9B0E-3DD905BB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D7B-7F55-49CF-BFA9-49E090CB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43B-E83C-45E1-9430-4AD65BE2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0D1-6EFB-4F6C-B2AF-35DE798A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7FD-FD89-4E10-BAFC-BDB1A7BB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918-7F90-44CD-A60D-1A39D065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4B30-DA26-446F-90CB-E9FA0FF6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1F48-1D3E-4D57-A953-9A78AAC3245B}" type="slidenum"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РЕМЕЋАЈ ХОМЕОСТАЗЕ ВОДЕ И СОЛИ КОД СТАРИ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480"/>
            <a:ext cx="640080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Проф. др</a:t>
            </a:r>
            <a:r>
              <a:rPr b="0" lang="sr-Latn-R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Радојица Столи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00"/>
                </a:solidFill>
                <a:latin typeface="Calibri"/>
              </a:rPr>
              <a:t>Факултет медицинских наука, Крагујева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Физиолошки одговор на же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3840" y="1500120"/>
            <a:ext cx="4429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69560" indent="-169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Рецептори за жеђ су у бубрезима, срцу и хипоталамусу (детектују смањен волумен течности или повећану концентрацију натријум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нформације се преносе до центра за жеђ у хипоталамусу а он даље према вишим сензорним подручјима у кори мозга који стимулише унос вод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69560" indent="-1695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нос течности је под контролом свесних навика јела и пића а све у зависности од социо-културолошких утица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4.bp.blogspot.com/-uU6GDEjYEB4/TjWqlzEomRI/AAAAAAAAAfg/cNa4bICOE1g/s1600/to%25CC%2588rstmekanismen.gif"/>
          <p:cNvPicPr/>
          <p:nvPr/>
        </p:nvPicPr>
        <p:blipFill>
          <a:blip r:embed="rId1"/>
          <a:stretch/>
        </p:blipFill>
        <p:spPr>
          <a:xfrm>
            <a:off x="4857840" y="4262400"/>
            <a:ext cx="4071960" cy="2381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www.europeanhydrationinstitute.org/wp-content/uploads/2013/03/waterhosm.jpg"/>
          <p:cNvPicPr/>
          <p:nvPr/>
        </p:nvPicPr>
        <p:blipFill>
          <a:blip r:embed="rId2"/>
          <a:stretch/>
        </p:blipFill>
        <p:spPr>
          <a:xfrm>
            <a:off x="4643280" y="1785960"/>
            <a:ext cx="4357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Физиолошки губитак в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невни губитак воде у просеку је 2,5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ло губи око 400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дневно дисањем и 500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роз кожу а да тога нисмо свес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о чега смо свесни је губитак од око 1.500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рином и око 100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толиц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Поремећај</a:t>
            </a:r>
            <a:r>
              <a:rPr b="1" lang="sr-Latn-CS" sz="4400" spc="-1" strike="noStrike">
                <a:solidFill>
                  <a:srgbClr val="ffffff"/>
                </a:solidFill>
                <a:latin typeface="Calibri"/>
              </a:rPr>
              <a:t> метаболизма в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оремећај метаболизма воде одражава се променама осмоларности серума и концентрације натрију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Одржавање осмоларности серума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одвија се у изузетно уским оквирима концентрације натријума распона 135-145 </a:t>
            </a:r>
            <a:r>
              <a:rPr b="0" i="1" lang="sr-Latn-CS" sz="3600" spc="-1" strike="noStrike">
                <a:solidFill>
                  <a:srgbClr val="000000"/>
                </a:solidFill>
                <a:latin typeface="Calibri"/>
              </a:rPr>
              <a:t>mmol/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Метаболизам воде код старих осо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 старењем бубрег пролази кроз неколико анатомских и физиолошких промена које ограничавају адаптабилне механизме који су одговорни за одржавање, састав и обим екстрацелуларне 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говорни механизам је пад ЈГФ и неспособност одржавања хомеостазе воде и натријума, као одговор на нутритивне и животне проме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4200" y="709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Метаболизам воде код старих осо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3840" y="1285920"/>
            <a:ext cx="44290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3240" indent="-9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тарији болесници су осетљивији на абнормалности соли и вод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93240" indent="-9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ипернатремија се јавља код 1% хоспитализованих болесника старијих од 60 годи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93240" indent="-9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Смртност старих болесника са хипернатремијом је 40%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93240" indent="-9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хипонатремија је честа код старих болесника (два пута је чешћи морталитетни фактор ризик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93240" indent="-93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Хипо и хипернатремија може изазвати озбиљне неуролошке симптоме, па чак и смрт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h4hinitiative.com/sites/default/files/bookpage/4.1.1-monograph-aging-fig-3_0.jpg"/>
          <p:cNvPicPr/>
          <p:nvPr/>
        </p:nvPicPr>
        <p:blipFill>
          <a:blip r:embed="rId2"/>
          <a:stretch/>
        </p:blipFill>
        <p:spPr>
          <a:xfrm>
            <a:off x="4643280" y="1571760"/>
            <a:ext cx="42865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Фактори регулације хомеостазе во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71400"/>
            <a:ext cx="822960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>
              <a:spcBef>
                <a:spcPts val="575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cc"/>
                </a:solidFill>
                <a:latin typeface="Calibri"/>
              </a:rPr>
              <a:t>Р</a:t>
            </a:r>
            <a:r>
              <a:rPr b="0" lang="sr-Latn-CS" sz="2300" spc="-1" strike="noStrike">
                <a:solidFill>
                  <a:srgbClr val="0000cc"/>
                </a:solidFill>
                <a:latin typeface="Calibri"/>
              </a:rPr>
              <a:t>егулација воде и растворених супстанци од стране бубрег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575"/>
              </a:spcBef>
              <a:buClr>
                <a:srgbClr val="0000c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cc"/>
                </a:solidFill>
                <a:latin typeface="Calibri"/>
              </a:rPr>
              <a:t>О</a:t>
            </a:r>
            <a:r>
              <a:rPr b="0" lang="sr-Latn-CS" sz="2300" spc="-1" strike="noStrike">
                <a:solidFill>
                  <a:srgbClr val="0000cc"/>
                </a:solidFill>
                <a:latin typeface="Calibri"/>
              </a:rPr>
              <a:t>чуван механизам жеђ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а старењем, поремећај концентрације и дилуције урина се рефлектује поремећајем тубулских функц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Очекиван поремећај код старих особа је дисбаланс соли и вод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драва стара особа остварује осмоларност урина од 700-800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mОsm/kg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повећан ризик од хипернатриемије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тарије особе не могу да разреде урин мање од 100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mОsm/kg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, у поређењу са 50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mОsm/kg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код младих одраслих особа као последица пада ЈГФ и смањења тубулске реакције на АД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М</a:t>
            </a: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етаболизам воде код старих осо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тарије особе имају мању способност концентрације мокраће и мању осетљивост на же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рије особе 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шће конзумирају лекове који утичу на лучење АД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креција АДХ може бити оштећена и због тумора, грануломатозних болести, васкуларних болести, трауме, метаболичких и других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ви ови параметри смањују осећај жеђи што може условити негативан биланс воде и со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Метаболизам натријума код старих осо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2440" indent="-17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ад концентрације натријума у урину настаје након неслане дијете у трајању од 17,6 сати код млађих а 31 сат код старих осо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2440" indent="-17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ањен број нефрона доводи до оштећења осмотске функције па настаје блага осмотска диуре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2440" indent="-17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стају промене у синтези ренина и алдостер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2440" indent="-172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ак, због смањеног стварања атријалног натриуретског пептида смањује се способност излучивања натрију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Метаболизам натријума код старих осо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Хипонатриемија се дефинише смањењем концентрације натријума у екстрацелуларном делу сер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д клиничког значаја је &lt;130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mol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 је један од најчешћих поремећаја електролита код старих особа (чешће код же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Мониторинг хипонатри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роценити осмолалност серу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лико је осмолалност серума ниска (285-295 </a:t>
            </a:r>
            <a:r>
              <a:rPr b="0" i="1" lang="sr-Latn-CS" sz="32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овакво стање се класификује као право хипоосмотско ста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во серумског вазопресина се не контролише у рутинској клиничкој прак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Шта можемо очекивати од здравља у стар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1600200"/>
            <a:ext cx="42098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1360" indent="-171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Иако је очекивани животни век продужен за већину људи, здрава старост је скоро непојмљив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дравље се код старих особа процењује у односу на </a:t>
            </a:r>
            <a:r>
              <a:rPr b="0" lang="sr-Latn-CS" sz="2300" spc="-1" strike="noStrike">
                <a:solidFill>
                  <a:srgbClr val="ff0000"/>
                </a:solidFill>
                <a:latin typeface="Calibri"/>
              </a:rPr>
              <a:t>самостално процењивање здрављ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300" spc="-1" strike="noStrike">
                <a:solidFill>
                  <a:srgbClr val="ff0000"/>
                </a:solidFill>
                <a:latin typeface="Calibri"/>
              </a:rPr>
              <a:t>на живот без инвалидитет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3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300" spc="-1" strike="noStrike">
                <a:solidFill>
                  <a:srgbClr val="ff0000"/>
                </a:solidFill>
                <a:latin typeface="Calibri"/>
              </a:rPr>
              <a:t>на време без когнитивних поремећа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Очекивани пораст старије популације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у САД је од 38-48 милиона до 2050. годин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starost-61"/>
          <p:cNvPicPr/>
          <p:nvPr/>
        </p:nvPicPr>
        <p:blipFill>
          <a:blip r:embed="rId1"/>
          <a:srcRect l="3444" t="3945" r="3499" b="19370"/>
          <a:stretch/>
        </p:blipFill>
        <p:spPr>
          <a:xfrm>
            <a:off x="4643280" y="1789200"/>
            <a:ext cx="4143600" cy="34257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4643280" y="5500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Старост је период у животу када вам сви све опрашт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Фактори који доприносе појави хипонатри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Терапија диуретици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лаб унос теч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тања са х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ипонатриемијом и нормалном запремином екстраћелијског волумена тестирати на хипотиреоидиз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Симптоми и знаци хипонатрием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43400" y="1356840"/>
            <a:ext cx="4572000" cy="51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зависности од концентрације натријума симптоми варирају од асимптоматског до видљивих манифестација од стране ЦНС (летаргија, конфузија, кома, смрт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уптилни налаз се манифестује губитком пажњ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http://www.theissnscoop.com/wp-content/uploads/2015/07/9011366123307.jpg"/>
          <p:cNvPicPr/>
          <p:nvPr/>
        </p:nvPicPr>
        <p:blipFill>
          <a:blip r:embed="rId1"/>
          <a:stretch/>
        </p:blipFill>
        <p:spPr>
          <a:xfrm>
            <a:off x="144360" y="1419120"/>
            <a:ext cx="4141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Терапија хипонатрием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371600"/>
            <a:ext cx="365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У зависности од патогенезе и озбиљности симптом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900" spc="-1" strike="noStrike">
                <a:solidFill>
                  <a:srgbClr val="000000"/>
                </a:solidFill>
                <a:latin typeface="Calibri"/>
              </a:rPr>
              <a:t>Sol NaCl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 0,9%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9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колико симптоми потрају и након нормализације натријума даје се концентровани </a:t>
            </a:r>
            <a:r>
              <a:rPr b="0" i="1" lang="sr-Latn-CS" sz="2900" spc="-1" strike="noStrike">
                <a:solidFill>
                  <a:srgbClr val="000000"/>
                </a:solidFill>
                <a:latin typeface="Calibri"/>
              </a:rPr>
              <a:t>NaC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9" descr="http://www.tvbest.rs/files/article/zabava/smesna-strana-dana/1/baba-1.jpg"/>
          <p:cNvPicPr/>
          <p:nvPr/>
        </p:nvPicPr>
        <p:blipFill>
          <a:blip r:embed="rId1"/>
          <a:srcRect l="2482" t="5360" r="20854" b="0"/>
          <a:stretch/>
        </p:blipFill>
        <p:spPr>
          <a:xfrm>
            <a:off x="3929040" y="1571760"/>
            <a:ext cx="4857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Терапија хипонатри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ећање концентрације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натријума, као одговор на третман, не сме премашити 0,3-0,4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/на сат у току 24 сати јер би корекција преко 0,5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изазвала тешке неуролошке комплика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одити рачуна о хиперволемији (не више од 50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на сат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од кардиоваскуланих болесник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75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ml Sol NaCl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0,9%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на сат може подићи концентрацију натријума за око 0,3-0,5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на с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ељена концентрација натријума процењује се множењем очекиване концентрације натријума са укупном телесном вод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Терапија хипонатри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ронична хипонатриемија код жена у менопаузи је бенигно стање, код асимптоматских стања предлаже се само ограничен унос теч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постменопаузи хронична хипонатриемија разлог је великом морбидитету и морталитету (добар исход је и.в. супституција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Sol NaCl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0,9%)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ећана екскреција воде диуретицима условљава хипотони урин који резултира негативним билансом слободне вод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д синдрома неадекватног одговора на секрецију АДХ апликује се 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Demeclocycline hydrochloride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300</a:t>
            </a:r>
            <a:r>
              <a:rPr b="0" i="1" lang="sr-Latn-CS" sz="2600" spc="-1" strike="noStrike">
                <a:solidFill>
                  <a:srgbClr val="000000"/>
                </a:solidFill>
                <a:latin typeface="Calibri"/>
              </a:rPr>
              <a:t> mg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орално, 4 пута дневно (10 дан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Хипернатриемија код старих осо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оста је распрострањена међу старијом популацијом (клинички значајан је ниво од 150 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роценат телесне воде опада са старењ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пернатриемија је код 40-60% старих особа високоризично стање за морбидитет и морталит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опа смртности је највећа уколико је ниво натријума изнад 160 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Хипернатриемија код старих особ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1360" indent="-1713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 побољшање опоравка менталних функција пожељна је спора корекција натријума у периоду од 72 са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Дехидратациј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се дефинише ка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дефицит воде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(хипернатриемија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 меша се са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хиповолемијом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која се дефинише као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смањење интраваскуларног волумена, независно од промене серумске концентрације натр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хидратација је уобичајена код старих и повезана је са хипер и хипонатриемиј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Симптоми и знаци хипернатрием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13840" y="1600200"/>
            <a:ext cx="4281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Летаргија и слабос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коченост и кома (код озбиљне хипернатриемиј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линички се испољава смањеним тургором коже, сувоћом у устима, ортостатском хипотензијом, одсуством знојења, хемоконцентрацијом, ретко капиларно крвављење или спонтани субдурални хемат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storage.torontosun.com/v1/dynamic_resize/sws_path/suns-prod-images/1297616846774_ORIGINAL.jpg?quality=80&amp;size=650x"/>
          <p:cNvPicPr/>
          <p:nvPr/>
        </p:nvPicPr>
        <p:blipFill>
          <a:blip r:embed="rId1"/>
          <a:srcRect l="5384" t="7783" r="12693" b="13832"/>
          <a:stretch/>
        </p:blipFill>
        <p:spPr>
          <a:xfrm>
            <a:off x="4643280" y="1571760"/>
            <a:ext cx="4071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Процена болесника са хипернатриеми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гноза и терапија зависи од етиологије и процене брзине развоја симпто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поволемијска хипернатриемија условљава губитак воде, више од губитка натрију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ацијенти са хипернатриемијом могу имати хиперволем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ћина болесника са хипернатриемијом и средњим губитком воде клинички су еуволемични са готово нормалним статусом натрију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убрежни губитак воде изазива еуволемијску хипернатриемију (дефект у синтези вазопресин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Терапија хипернатри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о се иницирају изотони слани раствори или волемијски експандери који побољшавају крвни притисак и перфузију тк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њени дефицит воде надокнадђује се за 48-72 сати хипотоним физиолошким или 5% глукоз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о је хипернатриемија последица хиперволемије дају се диуретици или се спроводи дијали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 еуволемичних пацијената са хипернатриемијом перорална надокнада воде уколико је свестан, у супротном интравенска супститу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Calibri"/>
              </a:rPr>
              <a:t>С</a:t>
            </a:r>
            <a:r>
              <a:rPr b="1" lang="sr-Latn-CS" sz="4000" spc="-1" strike="noStrike">
                <a:solidFill>
                  <a:srgbClr val="ff0000"/>
                </a:solidFill>
                <a:latin typeface="Calibri"/>
              </a:rPr>
              <a:t>тарост и хронична бубрежна слабо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Више од 20 милиона људи има БИ (8 милиона III, IV и V степен Б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ломерулска филтрација и јачина бубрежног протока плазме опада са старошћ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ежина бубрега опада од око 400 гр у 40 години до 300 гр у деветој децениј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еличина бубрега се смањује за 10-30% у 80 годи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ромене су последица гломерулосклер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Т</a:t>
            </a: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ерапија хипернатри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 старијих без значајног губитка воде 5% глукоза (25 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 на сат, 2-3 дана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онцентрацију натријума контролисати дневно или чешће у зависности од клиничке слик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онцентрација натријума не би требало да се смањи за више од 0,5 </a:t>
            </a:r>
            <a:r>
              <a:rPr b="0" i="1" lang="sr-Latn-CS" sz="3000" spc="-1" strike="noStrike">
                <a:solidFill>
                  <a:srgbClr val="000000"/>
                </a:solidFill>
                <a:latin typeface="Calibri"/>
              </a:rPr>
              <a:t>ml/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Брза корекција натријума може изазвати едем мозга и његово трајно оштећењ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Large image of Figure.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400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Метаболизам воде код стар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34718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Старењем се мишићна маса замењује масном мас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мањује се укупна телесна вода што утиче на појаву хипонатриемије (2,5-50%) и хипернатриемије (1%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s://s-media-cache-ak0.pinimg.com/236x/c8/85/5c/c8855cac380470b63814316f4c9c7a1a.jpg"/>
          <p:cNvPicPr/>
          <p:nvPr/>
        </p:nvPicPr>
        <p:blipFill>
          <a:blip r:embed="rId1"/>
          <a:stretch/>
        </p:blipFill>
        <p:spPr>
          <a:xfrm>
            <a:off x="4286160" y="285840"/>
            <a:ext cx="442908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Метаболизам в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ло здравих одраслих особа садржи 55-65% воде,  унутар интрацелуларног простора се налази 55-75% а са годинама се пропорционално смањ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рум представља једну четвртину екстраћелијског прос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тидиурезни хормон (АДХ) утиче на хомеостазу метаболизма 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јважнији модулатор секреције АДХ је осмоларност сер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гулација биланса в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Жеђ покрећу сложени физиолошки механиз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нос хране изазива лучење пљувачке, у желуцу се луче сокови а након тога и у панкреас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невно се у телу размени око 10 литара во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морегулационе размене подразумевају сложену комуникацију између мозга, бубрега и ендокриног систе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Хомеостатски циљ организма је да успостави равнотежу уноса и губитка во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егулација уноса в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404352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купан дневни унос воде у просеку је 2,5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роз метаболичке процесе наша ткива произведу око 300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воде днев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татак мора бити уравнотежен уносом течности (око 1,5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) и чврстом храном (око 700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декватан унос воде за одрасле мушкарце је 3,7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и 2,7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за одрасле жене (у просеку око 2,2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images.flatworldknowledge.com/zimmerman/zimmerman-fig07_003.jpg"/>
          <p:cNvPicPr/>
          <p:nvPr/>
        </p:nvPicPr>
        <p:blipFill>
          <a:blip r:embed="rId1"/>
          <a:stretch/>
        </p:blipFill>
        <p:spPr>
          <a:xfrm>
            <a:off x="4643280" y="1571760"/>
            <a:ext cx="4071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Calibri"/>
              </a:rPr>
              <a:t>Дневне потребе за вод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илема о укупној количини воде која је потребна за одржавање здрављ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ма научних доказа о количини воде која побољшава здравље или смањује ризик од бол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Једини простор за који је потврђен превентивни значај уноса воде је бубрежна калкулоз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веровање да људи треба да пију осам чаша воде дневно није званична препорука (хиперволемија?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личина воде коју треба конзумирати свакодневно је променљива категорија (клима, године живота, ниво физичке активности, функција бубрега???!!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300" spc="-1" strike="noStrike">
                <a:solidFill>
                  <a:srgbClr val="ff0000"/>
                </a:solidFill>
                <a:latin typeface="Calibri"/>
              </a:rPr>
              <a:t>Механизам жеђи/зашто пијемо?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001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6040" indent="-1760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Жеђ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(осморегулаторни механизам) је резултат дејства хормона и нервних одговора који доприноси равнотежи течности и састава организма, активира се као одговор на промене у запремини воде (осетљивији је на промене у осмолалитету крви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молалност крви примарно је узрокован концентрацијом натријума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Центар за жеђ </a:t>
            </a:r>
            <a:r>
              <a:rPr b="0" lang="sr-Latn-CS" sz="2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е налази у хипоталамус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д старијих људи механизам жеђи не реагује адекватно и постоји већи ризик за дехидратациј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0T17:09:07Z</dcterms:created>
  <dc:creator>Stolic</dc:creator>
  <dc:description/>
  <dc:language>en-US</dc:language>
  <cp:lastModifiedBy>Microsoft Office User</cp:lastModifiedBy>
  <dcterms:modified xsi:type="dcterms:W3CDTF">2023-02-06T09:01:36Z</dcterms:modified>
  <cp:revision>124</cp:revision>
  <dc:subject/>
  <dc:title>СТАРОСТ И ПОРЕМЕЋАЈ ХОМЕОСТАЗЕ ВОДЕ И СОЛИ У СТАРИХ</dc:title>
</cp:coreProperties>
</file>